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EAB-EABD-4525-98A2-B656BEDF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B25-676D-4ADA-9621-0718BAE7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872-F0FC-4619-B56A-3FAB81C3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C2D-194D-4BD2-BE5A-80B1C4CC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ED6-F442-4304-82B5-87A7EAA9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3FF-3F6B-4686-97F6-08112E34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F4D-9E47-4635-AE63-69D7B037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114-69B9-4BED-9C2E-17E6C265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997-5BFF-46F0-8F5F-83ED6ADA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E1D-CA8F-4E3A-9C74-ECE5CBAD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A48-1758-42CD-9B5B-4047DBB7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08A-5C06-47B3-A2DD-CB509A08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F0D4-E86B-4396-B1AA-F22F49C87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36576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4f81bd"/>
                </a:solidFill>
                <a:latin typeface="Calibri"/>
              </a:rPr>
              <a:t>Wik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920" y="15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k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a page or collection of Web pages designed to enable anyone who accesses it to contribute or modify cont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TextBox 3"/>
          <p:cNvGrpSpPr/>
          <p:nvPr/>
        </p:nvGrpSpPr>
        <p:grpSpPr>
          <a:xfrm>
            <a:off x="334800" y="1841400"/>
            <a:ext cx="3743640" cy="1150920"/>
            <a:chOff x="334800" y="1841400"/>
            <a:chExt cx="3743640" cy="1150920"/>
          </a:xfrm>
        </p:grpSpPr>
        <p:pic>
          <p:nvPicPr>
            <p:cNvPr id="44" name="TextBox 3" descr=""/>
            <p:cNvPicPr/>
            <p:nvPr/>
          </p:nvPicPr>
          <p:blipFill>
            <a:blip r:embed="rId1"/>
            <a:stretch/>
          </p:blipFill>
          <p:spPr>
            <a:xfrm>
              <a:off x="334800" y="1841400"/>
              <a:ext cx="37436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57200" y="1905120"/>
              <a:ext cx="3565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collaborative encyclopedia Wikipedia is one of the best-known wikis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TextBox 4"/>
          <p:cNvGrpSpPr/>
          <p:nvPr/>
        </p:nvGrpSpPr>
        <p:grpSpPr>
          <a:xfrm>
            <a:off x="195120" y="3444840"/>
            <a:ext cx="4542120" cy="3273480"/>
            <a:chOff x="195120" y="3444840"/>
            <a:chExt cx="4542120" cy="3273480"/>
          </a:xfrm>
        </p:grpSpPr>
        <p:pic>
          <p:nvPicPr>
            <p:cNvPr id="47" name="TextBox 4" descr=""/>
            <p:cNvPicPr/>
            <p:nvPr/>
          </p:nvPicPr>
          <p:blipFill>
            <a:blip r:embed="rId2"/>
            <a:stretch/>
          </p:blipFill>
          <p:spPr>
            <a:xfrm>
              <a:off x="195120" y="3444840"/>
              <a:ext cx="454212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04920" y="3505320"/>
              <a:ext cx="43434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Wikis in Educ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-Students work together in one place to research, outline, draft, and edit projects within the wiki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-Organize articles, websites, videos, and other resources for student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-Give parents a chance to be a part of the classroom and stay up to date on classroom news and event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-Students and/or teachers post and respond to questions on a given topic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Picture 5" descr="Leelefever-WikisInPlainEnglish801.flv.jpg"/>
          <p:cNvPicPr/>
          <p:nvPr/>
        </p:nvPicPr>
        <p:blipFill>
          <a:blip r:embed="rId3"/>
          <a:stretch/>
        </p:blipFill>
        <p:spPr>
          <a:xfrm>
            <a:off x="4800600" y="2209680"/>
            <a:ext cx="405144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5:12:28Z</dcterms:created>
  <dc:creator>RRISD</dc:creator>
  <dc:description/>
  <dc:language>en-US</dc:language>
  <cp:lastModifiedBy>RRISD</cp:lastModifiedBy>
  <dcterms:modified xsi:type="dcterms:W3CDTF">2009-03-11T17:41:31Z</dcterms:modified>
  <cp:revision>15</cp:revision>
  <dc:subject/>
  <dc:title>Slide 1</dc:title>
</cp:coreProperties>
</file>